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4AA-62BD-474A-A72C-54021105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900-65E6-47FD-A629-3EC36C5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A61-2938-4E9E-A062-22DCB20B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7AE-1CE8-4959-B5D0-2F26E81F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A97-F820-40E3-B496-0302FE3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DA4-5409-4196-BDE5-21B8BFD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AF0-4E74-43DD-8C90-B541AF3D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F79-8C3E-455C-94AA-5277B1D1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C91-EA51-4776-8ED0-8D5C0BD4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A86-9534-436C-BADD-2A4E63A6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DC3-AA71-4845-A22A-A25B329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DB5-6CF8-4B6A-8024-4E3F68F6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420-24B6-4FC2-8726-DF88432AF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7/Gandhis_ashes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0"/>
            <a:ext cx="403848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7 &amp;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Ch.5 voc. PPT due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0" y="1219320"/>
            <a:ext cx="4038480" cy="396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2-7 &amp; 8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ages 144-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ntry has the world’s largest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a’s climate is influenced by the monsoons and  the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Indian farmers can now plant crops twice a year because of the use o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666880" y="2286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914400" y="3352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685800" y="4648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ms and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4" descr="98bp460"/>
          <p:cNvPicPr/>
          <p:nvPr/>
        </p:nvPicPr>
        <p:blipFill>
          <a:blip r:embed="rId1"/>
          <a:stretch/>
        </p:blipFill>
        <p:spPr>
          <a:xfrm>
            <a:off x="685800" y="502920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media.ft.com/cms/f8b3727c-43d2-11de-a9be-00144feabdc0.gif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http://www.loksarthi.org/images/3_2.jpg"/>
          <p:cNvPicPr/>
          <p:nvPr/>
        </p:nvPicPr>
        <p:blipFill>
          <a:blip r:embed="rId3"/>
          <a:stretch/>
        </p:blipFill>
        <p:spPr>
          <a:xfrm>
            <a:off x="4267080" y="3429000"/>
            <a:ext cx="46119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http://static.newworldencyclopedia.org/thumb/4/48/Map_of_the_British_Empire_in_the_1920's.png/400px-Map_of_the_British_Empire_in_the_1920's.png"/>
          <p:cNvPicPr/>
          <p:nvPr/>
        </p:nvPicPr>
        <p:blipFill>
          <a:blip r:embed="rId4"/>
          <a:stretch/>
        </p:blipFill>
        <p:spPr>
          <a:xfrm>
            <a:off x="152280" y="-114300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rangoli4"/>
          <p:cNvPicPr/>
          <p:nvPr/>
        </p:nvPicPr>
        <p:blipFill>
          <a:blip r:embed="rId1"/>
          <a:stretch/>
        </p:blipFill>
        <p:spPr>
          <a:xfrm>
            <a:off x="137160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asia"/>
          <p:cNvPicPr/>
          <p:nvPr/>
        </p:nvPicPr>
        <p:blipFill>
          <a:blip r:embed="rId1"/>
          <a:srcRect l="17947" t="15278" r="8382" b="0"/>
          <a:stretch/>
        </p:blipFill>
        <p:spPr>
          <a:xfrm>
            <a:off x="533520" y="304920"/>
            <a:ext cx="8381880" cy="6095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9907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8288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81952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9907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9907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2514600" y="52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590920" y="2666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563868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31240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8"/>
          <p:cNvSpPr/>
          <p:nvPr/>
        </p:nvSpPr>
        <p:spPr>
          <a:xfrm>
            <a:off x="3048120" y="5200560"/>
            <a:ext cx="3828960" cy="142740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1427400"/>
              <a:gd name="textAreaBottom" fmla="*/ 1427760 h 1427400"/>
            </a:gdLst>
            <a:ahLst/>
            <a:rect l="textAreaLeft" t="textAreaTop" r="textAreaRight" b="textAreaBottom"/>
            <a:pathLst>
              <a:path w="2412" h="899">
                <a:moveTo>
                  <a:pt x="0" y="0"/>
                </a:moveTo>
                <a:cubicBezTo>
                  <a:pt x="4" y="136"/>
                  <a:pt x="1" y="272"/>
                  <a:pt x="12" y="408"/>
                </a:cubicBezTo>
                <a:cubicBezTo>
                  <a:pt x="21" y="523"/>
                  <a:pt x="266" y="502"/>
                  <a:pt x="300" y="504"/>
                </a:cubicBezTo>
                <a:cubicBezTo>
                  <a:pt x="335" y="610"/>
                  <a:pt x="321" y="551"/>
                  <a:pt x="336" y="684"/>
                </a:cubicBezTo>
                <a:cubicBezTo>
                  <a:pt x="360" y="676"/>
                  <a:pt x="384" y="668"/>
                  <a:pt x="408" y="660"/>
                </a:cubicBezTo>
                <a:cubicBezTo>
                  <a:pt x="420" y="656"/>
                  <a:pt x="444" y="648"/>
                  <a:pt x="444" y="648"/>
                </a:cubicBezTo>
                <a:cubicBezTo>
                  <a:pt x="541" y="658"/>
                  <a:pt x="617" y="678"/>
                  <a:pt x="708" y="708"/>
                </a:cubicBezTo>
                <a:cubicBezTo>
                  <a:pt x="769" y="728"/>
                  <a:pt x="836" y="724"/>
                  <a:pt x="900" y="732"/>
                </a:cubicBezTo>
                <a:cubicBezTo>
                  <a:pt x="1165" y="764"/>
                  <a:pt x="1328" y="772"/>
                  <a:pt x="1620" y="780"/>
                </a:cubicBezTo>
                <a:cubicBezTo>
                  <a:pt x="1867" y="815"/>
                  <a:pt x="2162" y="899"/>
                  <a:pt x="2376" y="756"/>
                </a:cubicBezTo>
                <a:cubicBezTo>
                  <a:pt x="2396" y="697"/>
                  <a:pt x="2412" y="703"/>
                  <a:pt x="2412" y="63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0"/>
          <p:cNvSpPr/>
          <p:nvPr/>
        </p:nvSpPr>
        <p:spPr>
          <a:xfrm>
            <a:off x="5295960" y="3828960"/>
            <a:ext cx="471600" cy="1314720"/>
          </a:xfrm>
          <a:custGeom>
            <a:avLst/>
            <a:gdLst>
              <a:gd name="textAreaLeft" fmla="*/ 0 w 471600"/>
              <a:gd name="textAreaRight" fmla="*/ 471960 w 471600"/>
              <a:gd name="textAreaTop" fmla="*/ 0 h 1314720"/>
              <a:gd name="textAreaBottom" fmla="*/ 1315080 h 1314720"/>
            </a:gdLst>
            <a:ahLst/>
            <a:rect l="textAreaLeft" t="textAreaTop" r="textAreaRight" b="textAreaBottom"/>
            <a:pathLst>
              <a:path w="297" h="828">
                <a:moveTo>
                  <a:pt x="0" y="0"/>
                </a:moveTo>
                <a:cubicBezTo>
                  <a:pt x="78" y="26"/>
                  <a:pt x="158" y="1"/>
                  <a:pt x="228" y="48"/>
                </a:cubicBezTo>
                <a:cubicBezTo>
                  <a:pt x="270" y="175"/>
                  <a:pt x="200" y="318"/>
                  <a:pt x="276" y="432"/>
                </a:cubicBezTo>
                <a:cubicBezTo>
                  <a:pt x="272" y="460"/>
                  <a:pt x="272" y="489"/>
                  <a:pt x="264" y="516"/>
                </a:cubicBezTo>
                <a:cubicBezTo>
                  <a:pt x="260" y="530"/>
                  <a:pt x="240" y="538"/>
                  <a:pt x="240" y="552"/>
                </a:cubicBezTo>
                <a:cubicBezTo>
                  <a:pt x="240" y="577"/>
                  <a:pt x="264" y="624"/>
                  <a:pt x="264" y="624"/>
                </a:cubicBezTo>
                <a:cubicBezTo>
                  <a:pt x="250" y="828"/>
                  <a:pt x="297" y="828"/>
                  <a:pt x="120" y="82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8862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 flipH="1">
            <a:off x="3657600" y="5029200"/>
            <a:ext cx="38088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4267080" y="5029200"/>
            <a:ext cx="3049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26708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H="1">
            <a:off x="4191120" y="441972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657600" y="4191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342900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3543480" y="35812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30481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7315200" y="3733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3"/>
          <p:cNvSpPr/>
          <p:nvPr/>
        </p:nvSpPr>
        <p:spPr>
          <a:xfrm flipH="1">
            <a:off x="2362320" y="2895480"/>
            <a:ext cx="304560" cy="152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1828800" y="5638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8"/>
          <p:cNvSpPr/>
          <p:nvPr/>
        </p:nvSpPr>
        <p:spPr>
          <a:xfrm flipV="1">
            <a:off x="2819520" y="3429000"/>
            <a:ext cx="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 flipV="1">
            <a:off x="2819520" y="5333760"/>
            <a:ext cx="9903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2"/>
          <p:cNvSpPr/>
          <p:nvPr/>
        </p:nvSpPr>
        <p:spPr>
          <a:xfrm flipV="1">
            <a:off x="1371600" y="4876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590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34340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32"/>
          <p:cNvCxnSpPr/>
          <p:nvPr/>
        </p:nvCxnSpPr>
        <p:spPr>
          <a:xfrm>
            <a:off x="4570920" y="4800600"/>
            <a:ext cx="111960" cy="255960"/>
          </a:xfrm>
          <a:prstGeom prst="straightConnector1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probertencyclopaedia.com/photolib/maps/Map%20of%20British%20Empire%2019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0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static.newworldencyclopedia.org/thumb/4/4f/Clive.jpg/300px-Clive.jpg"/>
          <p:cNvPicPr/>
          <p:nvPr/>
        </p:nvPicPr>
        <p:blipFill>
          <a:blip r:embed="rId2"/>
          <a:stretch/>
        </p:blipFill>
        <p:spPr>
          <a:xfrm>
            <a:off x="0" y="49528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originofnations.org/British_Empire/image002.jpg"/>
          <p:cNvPicPr/>
          <p:nvPr/>
        </p:nvPicPr>
        <p:blipFill>
          <a:blip r:embed="rId3"/>
          <a:stretch/>
        </p:blipFill>
        <p:spPr>
          <a:xfrm>
            <a:off x="6627960" y="4952880"/>
            <a:ext cx="251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singapore-map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ingapore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eco-business.com/wp-content/uploads/photologue/photos/singapore.jpg"/>
          <p:cNvPicPr/>
          <p:nvPr/>
        </p:nvPicPr>
        <p:blipFill>
          <a:blip r:embed="rId1"/>
          <a:stretch/>
        </p:blipFill>
        <p:spPr>
          <a:xfrm>
            <a:off x="0" y="0"/>
            <a:ext cx="4619520" cy="34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holidaysintourism.com/wp-content/uploads/2011/09/holiday-in-Singapore.jpg"/>
          <p:cNvPicPr/>
          <p:nvPr/>
        </p:nvPicPr>
        <p:blipFill>
          <a:blip r:embed="rId2"/>
          <a:stretch/>
        </p:blipFill>
        <p:spPr>
          <a:xfrm>
            <a:off x="0" y="3433680"/>
            <a:ext cx="4572000" cy="342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s://www.bookajourney.com/photos/packages/1316777080singapore123.jpg"/>
          <p:cNvPicPr/>
          <p:nvPr/>
        </p:nvPicPr>
        <p:blipFill>
          <a:blip r:embed="rId3"/>
          <a:stretch/>
        </p:blipFill>
        <p:spPr>
          <a:xfrm>
            <a:off x="4591080" y="1295280"/>
            <a:ext cx="4552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nt20661"/>
          <p:cNvPicPr/>
          <p:nvPr/>
        </p:nvPicPr>
        <p:blipFill>
          <a:blip r:embed="rId1"/>
          <a:stretch/>
        </p:blipFill>
        <p:spPr>
          <a:xfrm>
            <a:off x="5486400" y="45720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inglese"/>
          <p:cNvPicPr/>
          <p:nvPr/>
        </p:nvPicPr>
        <p:blipFill>
          <a:blip r:embed="rId2"/>
          <a:srcRect l="60840" t="0" r="0" b="0"/>
          <a:stretch/>
        </p:blipFill>
        <p:spPr>
          <a:xfrm>
            <a:off x="5715000" y="3429000"/>
            <a:ext cx="165276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frhardonvisitsmotherteresah"/>
          <p:cNvPicPr/>
          <p:nvPr/>
        </p:nvPicPr>
        <p:blipFill>
          <a:blip r:embed="rId3"/>
          <a:stretch/>
        </p:blipFill>
        <p:spPr>
          <a:xfrm>
            <a:off x="0" y="0"/>
            <a:ext cx="4762440" cy="310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capt"/>
          <p:cNvPicPr/>
          <p:nvPr/>
        </p:nvPicPr>
        <p:blipFill>
          <a:blip r:embed="rId4"/>
          <a:stretch/>
        </p:blipFill>
        <p:spPr>
          <a:xfrm>
            <a:off x="1295280" y="3295800"/>
            <a:ext cx="2762280" cy="3562200"/>
          </a:xfrm>
          <a:prstGeom prst="rect">
            <a:avLst/>
          </a:prstGeom>
          <a:ln w="0">
            <a:noFill/>
          </a:ln>
        </p:spPr>
      </p:pic>
      <p:sp>
        <p:nvSpPr>
          <p:cNvPr id="62" name="WordArt 14"/>
          <p:cNvSpPr txBox="1"/>
          <p:nvPr/>
        </p:nvSpPr>
        <p:spPr>
          <a:xfrm>
            <a:off x="2610000" y="3111480"/>
            <a:ext cx="39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ther Theres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handas 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Image:Gandhis ash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2670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3"/>
          <p:cNvPicPr/>
          <p:nvPr/>
        </p:nvPicPr>
        <p:blipFill>
          <a:blip r:embed="rId3"/>
          <a:stretch/>
        </p:blipFill>
        <p:spPr>
          <a:xfrm>
            <a:off x="5791320" y="1371600"/>
            <a:ext cx="286524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d7"/>
          <p:cNvPicPr/>
          <p:nvPr/>
        </p:nvPicPr>
        <p:blipFill>
          <a:blip r:embed="rId4"/>
          <a:stretch/>
        </p:blipFill>
        <p:spPr>
          <a:xfrm>
            <a:off x="609480" y="1219320"/>
            <a:ext cx="180504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d92"/>
          <p:cNvPicPr/>
          <p:nvPr/>
        </p:nvPicPr>
        <p:blipFill>
          <a:blip r:embed="rId5"/>
          <a:stretch/>
        </p:blipFill>
        <p:spPr>
          <a:xfrm>
            <a:off x="6095880" y="3962520"/>
            <a:ext cx="2743200" cy="23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e91"/>
          <p:cNvPicPr/>
          <p:nvPr/>
        </p:nvPicPr>
        <p:blipFill>
          <a:blip r:embed="rId6"/>
          <a:stretch/>
        </p:blipFill>
        <p:spPr>
          <a:xfrm>
            <a:off x="2590920" y="3924360"/>
            <a:ext cx="3305160" cy="293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greetimg1"/>
          <p:cNvPicPr/>
          <p:nvPr/>
        </p:nvPicPr>
        <p:blipFill>
          <a:blip r:embed="rId7"/>
          <a:stretch/>
        </p:blipFill>
        <p:spPr>
          <a:xfrm>
            <a:off x="3276720" y="1143000"/>
            <a:ext cx="1771560" cy="2381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0"/>
          <p:cNvSpPr/>
          <p:nvPr/>
        </p:nvSpPr>
        <p:spPr>
          <a:xfrm>
            <a:off x="228600" y="6400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’s 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5943600" y="6280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 and his wife (to the left) spinning the Chark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3808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dhi with N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lowers"/>
          <p:cNvPicPr/>
          <p:nvPr/>
        </p:nvPicPr>
        <p:blipFill>
          <a:blip r:embed="rId1"/>
          <a:stretch/>
        </p:blipFill>
        <p:spPr>
          <a:xfrm>
            <a:off x="1828800" y="228600"/>
            <a:ext cx="48862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mandana"/>
          <p:cNvPicPr/>
          <p:nvPr/>
        </p:nvPicPr>
        <p:blipFill>
          <a:blip r:embed="rId1"/>
          <a:stretch/>
        </p:blipFill>
        <p:spPr>
          <a:xfrm>
            <a:off x="990720" y="228600"/>
            <a:ext cx="6933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5:24:02Z</dcterms:created>
  <dc:creator>sramsey</dc:creator>
  <dc:description/>
  <dc:language>en-US</dc:language>
  <cp:lastModifiedBy>poweruser</cp:lastModifiedBy>
  <dcterms:modified xsi:type="dcterms:W3CDTF">2011-12-07T14:10:15Z</dcterms:modified>
  <cp:revision>21</cp:revision>
  <dc:subject/>
  <dc:title>Slide 1</dc:title>
</cp:coreProperties>
</file>